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994-D068-43EA-B544-F13EBE5B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90B-069B-4DDC-BDFE-AB92F8F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E29-9F1E-4DCA-A8E7-D28DB4D2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7BD-E9A7-4B38-A2EB-FBA566FA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68B-2A55-40CB-9926-CBFC2F14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9A5-0DB1-42C1-A3F4-86FD59E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803-B56A-49DF-8E07-2A8F6C83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DDB-07E6-490E-9825-120265DD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693-AC06-465D-9733-87F41B7C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E91-3E91-49F7-B31F-519A86A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238-291A-4631-9B4D-B85EFDE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98F-82E6-4F24-86DB-68F88A1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DBF-2A94-427F-8E1D-5BC7A19C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0"/>
            <a:ext cx="3276720" cy="7623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في أف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 في أفق 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ذا مجيء ربنا يكون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142490iRObjPIbaO_ph" descr=""/>
          <p:cNvPicPr/>
          <p:nvPr/>
        </p:nvPicPr>
        <p:blipFill>
          <a:blip r:embed="rId1"/>
          <a:stretch/>
        </p:blipFill>
        <p:spPr>
          <a:xfrm>
            <a:off x="-15238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3540849iDISSw_ph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685800"/>
            <a:ext cx="28195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ضئ مصابيح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نخرج إ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962215RfQtwEcBQb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296640" cy="681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236232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ه سيفرحنا ببهاء ضيائ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5:12Z</dcterms:created>
  <dc:creator>USER</dc:creator>
  <dc:description/>
  <dc:language>en-US</dc:language>
  <cp:lastModifiedBy>USER</cp:lastModifiedBy>
  <dcterms:modified xsi:type="dcterms:W3CDTF">2002-12-11T02:11:46Z</dcterms:modified>
  <cp:revision>2</cp:revision>
  <dc:subject/>
  <dc:title>PowerPoint Presentation</dc:title>
</cp:coreProperties>
</file>